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BC63-647E-40C9-8C59-A4BFD30AE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797B-849F-4C0A-BB33-97621E8DD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5B48-C46F-456C-BE5F-9A84348D6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CE96-B57A-4415-B3A7-11D044613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4A06-2B4F-4BEB-B43D-25ED2533B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0E8C-2D23-4AB9-A549-9F55258FD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3D91-A7B6-4DA4-BE56-0A01589F1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A12B-58F9-4BD7-84F4-E4197D9BF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9EBE-40FB-4B05-9E73-A1ACFB07D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1EDB-DFA8-4508-AA2E-D2F8C477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4EC6-F4E5-4E18-A7F6-6D4BBED0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C8D4-3D20-4484-9615-F072AEAC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2BA31-5D28-4F95-B687-E7920C533D0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LEMENTE DE LIMBAJ PLAST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NIA DN PERSPECTIVA MARILOR ARTI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Ş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ff"/>
                </a:solidFill>
                <a:latin typeface="Arial"/>
              </a:rPr>
              <a:t>PAUL KLE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Se naşte la 18 decembrie 1879 , în orăşelul Munchenbuchee , situat lângă Berna , în partea germană a Elveţie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În 1920 , noiembrie acceptă rugămintea colaboratorilor Şcolii Bauhaus de a lucra la catedra de pictur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627280" y="1170000"/>
            <a:ext cx="3807000" cy="568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95640" y="0"/>
            <a:ext cx="489744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ff"/>
                </a:solidFill>
                <a:latin typeface="Arial"/>
              </a:rPr>
              <a:t>pe malul canalulu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ff"/>
                </a:solidFill>
                <a:latin typeface="Arial"/>
              </a:rPr>
              <a:t>femeie în pom (1903 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343240" y="1690560"/>
            <a:ext cx="445752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ff"/>
                </a:solidFill>
                <a:latin typeface="Arial"/>
              </a:rPr>
              <a:t>carnival in the mountain(1924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532764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ff"/>
                </a:solidFill>
                <a:latin typeface="Arial"/>
              </a:rPr>
              <a:t>săritor (1930 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195640" y="1557360"/>
            <a:ext cx="4681440" cy="45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05:41:48Z</dcterms:created>
  <dc:creator>cursant</dc:creator>
  <dc:description/>
  <dc:language>en-US</dc:language>
  <cp:lastModifiedBy>cursant</cp:lastModifiedBy>
  <dcterms:modified xsi:type="dcterms:W3CDTF">2010-09-02T07:43:36Z</dcterms:modified>
  <cp:revision>2</cp:revision>
  <dc:subject/>
  <dc:title>ELEMENTE DE LIMBAJ PLASTIC</dc:title>
</cp:coreProperties>
</file>